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23C-204C-4549-89E0-108AE58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943-6D3F-48C7-99C1-2B14D1BC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713-C18D-40A7-B104-C59E1C29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B67-7E19-46E4-96DE-DE31DFDF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9D1-11B3-46CD-8E8B-9D71B7E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A81-6FA7-4E35-A9B8-5EDFC45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793-546E-4A6C-8FE4-99D3DF96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10E-DAAC-4C71-B770-8FD2823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7E2-7C4F-442C-8539-FA0A876B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A6-0EC8-468D-8BA4-30777F1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7C1-6D30-4288-9CF9-F7831C5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B62-65E6-4A57-A0FD-FC19289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84E-D4A8-4B94-B9FF-7DB78690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icles.economictimes.indiatimes.com/2012-03-06/news/31127176_1_mercedes-benz-india-mercedes-benz-mercedes-benz-plan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edes-Benz Investment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ticles.economictimes.indiatimes.com/2012-03-06/news/31127176_1_mercedes-benz-india-mercedes-benz-mercedes-benz-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ctimes.com/news/local/temecula/temecula-mercedes-benz-dealership-back-on-frontburner/article_27d651bf-d082-5326-ab9a-19e978b9188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llafrica.com/stories/20101209092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coloribus.com/files/adsarchive/part_677/6771555/file/mercedes-benz-classic-cars-investment-small-1734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enzinsider.com/wp-content/uploads/2010/12/MB_Chakanpla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3360" y="604800"/>
            <a:ext cx="8477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n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car manufacturer Mercedes-Benz plans to launch three to five compact premium cars in India by 20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lans to invest Rs 350 crore till 2014 in its facility at Chakan, In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for a new paint shop and two assembly lines for B- and A-class cars, and ML and GL SU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India is an important growth market for us, where we see potential,” says Dieter Zetcs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sche told ET that the company will expand its dealer network and ramp up production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chart on Mercedes Ben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49600" y="1447920"/>
            <a:ext cx="4056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n Califor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vestment group that has talked for years about building a Mercedes-Benz dealership in Temecula will do the plans that were thought up of in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ecula Mayor Chuck Washington said that the production of the site could begin in late summer or early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alership is planned to open sometime in the summer or fall of 2013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said the project was shelved because of the economy and that it's encouraging to see it being re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t's indicative they have confidence that things are getting better,” says Washingt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edes Pl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edes Benz plans to invest a further R2 billion in South Africa to build the next C-Class at its East London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vestment will reportedly increase the East London plant's capacity from 50 000 to 65 000 units per ann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edes Benz South Africa said the investment was expected to provide for extensive skills development and training locally and in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stment will provide the new plant equipment and the introduction of some of the very latest manufacturing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bring more than a dozen new technologies to South Africa in the car and production processes as well as localize more than 40 percent of the components for the new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in South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342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en were the plans thought up of for the California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investment in South Africa will raise production to what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Because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6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50:11Z</dcterms:created>
  <dc:creator>SCSadmin</dc:creator>
  <dc:description/>
  <dc:language>en-US</dc:language>
  <cp:lastModifiedBy>SCSadmin</cp:lastModifiedBy>
  <dcterms:modified xsi:type="dcterms:W3CDTF">2012-04-02T14:05:15Z</dcterms:modified>
  <cp:revision>14</cp:revision>
  <dc:subject/>
  <dc:title>Mercedes-Benz Investments around the world</dc:title>
</cp:coreProperties>
</file>